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56A4-5120-4B5A-B5C0-216CD7D7C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FB5-E977-4031-A98B-03D736AF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BB0-8B43-4C40-AB6E-317F8894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7C4A-3BF2-4393-9CD8-BC2711BE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08F9-36C8-4D2B-AB67-AFA3F9A2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0B64-E8F2-41CC-ADC0-CE8A93D6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CED9-41ED-4700-A298-69E93CE8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94FB-C8FA-49A7-BE74-B38A88EF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341-FBCA-4774-94C9-80E4DC0B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C0B-0AC9-4A7F-9E69-F9C9227B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324E-7025-407E-909C-4C463D8C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3836-714A-46EF-A3C0-E73AD9A2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6D83-5D5F-4E65-9F65-C750C9830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335304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ELL Programming Framework in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419112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lingual Depar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nuary 26 &amp; 27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ell-framework.gif"/>
          <p:cNvPicPr/>
          <p:nvPr/>
        </p:nvPicPr>
        <p:blipFill>
          <a:blip r:embed="rId1"/>
          <a:stretch/>
        </p:blipFill>
        <p:spPr>
          <a:xfrm>
            <a:off x="4114800" y="457200"/>
            <a:ext cx="465300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-5, WIDA Levels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 &amp; 2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wo classes taught by Licensed ESL Teach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609480" y="1371600"/>
            <a:ext cx="7925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D (i.e., English Language Development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ull-out or push-in focused ELD instruction to bring students quickly up to speed in basic academic and social language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 min x 5 days a week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 class size = 10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2)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-Teaching for English Through Grade-Level Content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-teaching in at least one “language-rich” content class (science or social studies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-5, WIDA Levels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3 &amp; 4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e co-taught ESL cla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533520" y="220968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-Teaching for English Through Grade-Level Content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-teaching in one “language-rich” content class (science or social studies)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-5, WIDA Level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co-taught, co-planned or consulted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685800" y="2209680"/>
            <a:ext cx="792468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aboration for English Through Grade-Level Content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least one content-area class should be co-taught, co-planned or “planned in consultation with” ELL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ote –  it would be extremely rare to hav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 content-class with only Level 5 EL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summarize, for K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457200" y="1379520"/>
            <a:ext cx="792468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DA Levels 1-2 = 2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e English Language Development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e co-taught content-area cla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DA Levels 3-4 = 1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e co-taught content-area cla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DA Level 5 = 1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e co-taught or “planned in consultation”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rvice Levels for ELs in Grades 6-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914400" y="1379520"/>
            <a:ext cx="289548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on two fa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31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ength of time in US schoo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31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IDA English Proficienc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31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3886200" y="1523880"/>
            <a:ext cx="4648320" cy="475704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hy is length of time in US schools an issue?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variety of reasons, stand-alone ESL classes are not an appropriate fit for Long-Term English Learners (LTEL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ing research suggests that access to grade level content with language support in the mainstream classroom will better support their n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rvices for Grades 6-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533520" y="1371600"/>
            <a:ext cx="266688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sed on WIDA English Proficiency Levels &amp; Time in US School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ree catego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vels 1,2  &amp;  3 </a:t>
            </a:r>
            <a:br>
              <a:rPr sz="2000"/>
            </a:b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(Less than 3 years in US schools)</a:t>
            </a: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vels 3 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(with 3+ years in US schools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amp; 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vel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992400" y="2209680"/>
            <a:ext cx="4381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rs. 6-12,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IDA Levels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-3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and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less than 3 years in US Schools =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 clas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318960" y="1523880"/>
            <a:ext cx="8382240" cy="52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nd-Alone ESL/EL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English Language Develop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9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ligned to grade-level content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9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aught by ESL teache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2) Sheltered English Language Arts (E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9852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nglish Lang. Dev. in and through grade-level, standards-based ELA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9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aught by dual-licensed ESL/ELA teacher or ESL teacher with Highly Qualified Credent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3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eltered instruction in at least one other content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9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heltered class serves only English Learners (EL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9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nglish Lang. Dev. in and through grade-level, standards-based content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9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aught by content teacher implementing sheltered instruction strategies and practices or co-taught by content-area and ESL teac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rs. 6-12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IDA Levels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3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(if 3+ yrs. in US schools)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r Level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4 =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318960" y="1523880"/>
            <a:ext cx="838224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1) Structured Immersion in Co-Taught English Lang Arts (E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ainstream class with mix of EL and non-E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nglish Lang. Dev. in and through grade-level, standards-based ELA instruction in mainstream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-taught by ESL teacher and ELA teac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2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ructured Immersion in at least one Co-Taught or Co-Planned Content Are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ainstream class with mix of EL and non-E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nglish Lang. Dev. in and through grade-level, standards-based content instruction in mainstream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-taught by content-area teacher and ESL teacher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OR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aught by content-area teacher who consults  with ESL teacher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regarding best metho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rs. 6-12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IDA Level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5 =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co-plann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318960" y="1523880"/>
            <a:ext cx="8382240" cy="46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1) Structured Immersion in Co-Planned English Lang Arts (E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ainstream class with mix of EL and non-E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nglish Lang. Dev. in and through grade-level, standards-based ELA instruction in mainstream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aught by ELA teacher who consults with ESL teacher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regarding best metho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2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ructured Immersion in at least one Co-Planned Content Are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ainstream class with mix of EL and non-E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nglish Lang. Dev. in and through grade-level, standards-based content instruction in mainstream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aught by content-area teacher who consults  with ESL teacher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regarding best metho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summarize, for 6-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457200" y="1219320"/>
            <a:ext cx="8381880" cy="56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DA Levels 1-3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less than 3 years in US schools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= 3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160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and-Alone ESL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160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heltered ELA taught by dual-licensed or Highly Qualified ESL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160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t least one Sheltered Content class taught by content teacher implementing sheltered instruction strategies and practices or co-taught by content-area and ESL teacher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DA Levels 3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3+ years in US schools) 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vel 4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2 cla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Immersion ELA (co-taught by ESL and ELA teac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160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ructured Immersion Content class (co-taught by ESL and content teachers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or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aught by content teacher who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consults with ESL teach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DA Level 5 = 2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 co-planne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Immersion ELA (taught by ELA teacher who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consults with ES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160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ructured Immersion Content class (taught by  taught by content teacher who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consults with ESL teach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7920" y="198360"/>
            <a:ext cx="449604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ey P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04920" y="914400"/>
            <a:ext cx="8153280" cy="56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Clarific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Goals &amp; Ste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Clarific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Where expectations come fro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Expect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Provide &amp; document services to all 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Expect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What service to which stud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Clarific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Modifications to the “what services” ru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Expect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wo main areas where the collaborating/ consulting ESL teachers contrib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spcAft>
                <a:spcPts val="1199"/>
              </a:spcAft>
              <a:buClr>
                <a:srgbClr val="00b05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Clarific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ools &amp; P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spcAft>
                <a:spcPts val="2999"/>
              </a:spcAft>
              <a:buClr>
                <a:srgbClr val="00b05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Clarific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A word about MPS Bilingual Progra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31859c"/>
                </a:solidFill>
                <a:latin typeface="Calibri"/>
              </a:rPr>
              <a:t>Envo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A key message to all content and classroom teachers (that you can help us wit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balance-scale.jpg"/>
          <p:cNvPicPr/>
          <p:nvPr/>
        </p:nvPicPr>
        <p:blipFill>
          <a:blip r:embed="rId1"/>
          <a:stretch/>
        </p:blipFill>
        <p:spPr>
          <a:xfrm>
            <a:off x="6649920" y="-6480"/>
            <a:ext cx="2500560" cy="1878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Balanc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Accountability &amp; Flexibi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04920" y="2057400"/>
            <a:ext cx="853416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ervice plans may not work for every buil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Buildings with lower numbers of English Lear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or example, may run into scheduling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W-ACCESS results arrive, we’ll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review service plans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elp buildings come up with an EL Support Plan that’s both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practical &amp; optimally effective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ey Point 5 of 9: 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larifica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ptions to the “Level of Services” Expectations</a:t>
            </a:r>
            <a:br>
              <a:rPr sz="28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ception 1: Dual Eligible Stud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544680" y="1981080"/>
            <a:ext cx="792468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igh standard of ca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pecial concern to the OCR and the feder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ices MUST be docu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ing on student needs, services take the form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irect service, and/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nsultation with Special Ed teach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alibri"/>
              </a:rPr>
              <a:t>All Dual Eligible students must receive services AND these services will must be documen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ey Point 5 of 9: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larifica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ptions to the “Level of Services” Expectations</a:t>
            </a:r>
            <a:br>
              <a:rPr sz="28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ception 2: Bilingual Progr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544680" y="1981080"/>
            <a:ext cx="82184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l students in bilingual progra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ust receive services from a licensed ESL teac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bu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various bilingual models may dictate different amounts/forms of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17280"/>
            <a:ext cx="8610840" cy="12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ey Point 6 of 9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xpectation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areas where ESL teachers contrib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29756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28600" y="304920"/>
          <a:ext cx="8763120" cy="6278400"/>
        </p:xfrm>
        <a:graphic>
          <a:graphicData uri="http://schemas.openxmlformats.org/drawingml/2006/table">
            <a:tbl>
              <a:tblPr/>
              <a:tblGrid>
                <a:gridCol w="4497480"/>
                <a:gridCol w="4265640"/>
              </a:tblGrid>
              <a:tr h="7761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o Goals informed by Two Sets of Princip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GLISH LANGUAGE  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0d8e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INGFUL ACCESS TO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RADE-LEVEL 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6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 Language Acqui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 at Optimal Challenge Level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orts for comprehension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communicative focu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portunities for challenging activities in all four domains (speaking, listening, reading, writ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portunities to focus on FORM (i.e., grammar, correctness of languag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atic attention to expanding vocabulary &amp; grammatical structur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65120" indent="-34920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IDA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5120" indent="-349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struction informed by WIDA tools (Performance Definitions, Criteria for PDs, Can-Do Descriptors, MPI’s)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5120" indent="-34920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fferentiate instruction based on student language proficienc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5120" indent="-349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vide learners with supported opportunities to expand their proficiency through challenging language tasks (speaking, listening, reading and writing) above their current level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27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marL="3889440" indent="-3657600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THE SERVICE OF BOTH GOALS:  Ongoing Progress monitoring of English Language Develop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39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ey Point 7 of 9:  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Clarification.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ill we support all this high-power teaching &amp; collabor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533520" y="1828800"/>
            <a:ext cx="792468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666880" y="1795320"/>
            <a:ext cx="5905800" cy="450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51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can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you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upport this collaboration and spread of expertis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d collaborative teams to PD opportuni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for release time and co-planning 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Lead teacher coordination 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curriculum and support materials to collaborating teach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 ESL teachers in content PD opportunities (and content teachers in ESL P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d out the message that you expect the expertise to transfer and spre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-Line Modules to support all the major facets of our Professional Development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ey Point 8 of 9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 Clarification. </a:t>
            </a:r>
            <a:br>
              <a:rPr sz="28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Few Words on Bilingual Programm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bilingual-framework.gif"/>
          <p:cNvPicPr/>
          <p:nvPr/>
        </p:nvPicPr>
        <p:blipFill>
          <a:blip r:embed="rId1"/>
          <a:stretch/>
        </p:blipFill>
        <p:spPr>
          <a:xfrm>
            <a:off x="762120" y="1523880"/>
            <a:ext cx="7391160" cy="489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ey Point 9 of 9 </a:t>
            </a:r>
            <a:r>
              <a:rPr b="1" lang="en-US" sz="3600" spc="-1" strike="noStrike">
                <a:solidFill>
                  <a:srgbClr val="00b0f0"/>
                </a:solidFill>
                <a:latin typeface="Calibri"/>
              </a:rPr>
              <a:t>Envoy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Key Message to Help Us With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457200" y="1447920"/>
            <a:ext cx="7924680" cy="43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L is arriving at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ew clarit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two key 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support ELs’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eed for language developm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[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principles of SLA]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support Els’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eed for grade-level instru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ppropriate to their English proficienc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[the WIDA Standards and tools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ybe not tomorrow or next week, but eventually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ey Point 1 of 9: </a:t>
            </a:r>
            <a:br>
              <a:rPr sz="3200"/>
            </a:b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Clarifica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: Goals &amp;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533520" y="1676520"/>
            <a:ext cx="8001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oal of today: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clarify what the ESL Framework means for the District and for your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wo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o understand what is called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go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o work together on meeting those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ey Point 9 of 9 </a:t>
            </a:r>
            <a:r>
              <a:rPr b="1" lang="en-US" sz="3600" spc="-1" strike="noStrike">
                <a:solidFill>
                  <a:srgbClr val="00b0f0"/>
                </a:solidFill>
                <a:latin typeface="Calibri"/>
              </a:rPr>
              <a:t>Envoy.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Key Message to Help Us With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530280" y="1523880"/>
            <a:ext cx="792468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ybe not tomorrow or next week, but eventually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key role of the ESL teacher will be to support the staff in designing and delivering instruction to meet these two nee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4521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Instruction to foster English Language Developmen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4521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Instruction appropriate to the amount of language students have available for grade-level content lear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ything you can do to create a building culture of teachers open to efforts like this … will help all of us to provide what our students need.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r in other word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ey Point 2 of 9: </a:t>
            </a:r>
            <a:br>
              <a:rPr sz="3200"/>
            </a:b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Clarificatio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 Where do the Framework expectations comes fro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609480" y="2362320"/>
            <a:ext cx="792504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DE 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tle III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 Department of Education Office of Civil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rict, Academic &amp; Multilingual Department Strategic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rict Comprehensive Improvement Initiatives (Focused Instruction, SOE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DA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rt consultants, Scholarship &amp; Bes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0556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ey Point 3 of 9: </a:t>
            </a:r>
            <a:br>
              <a:rPr sz="32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Expectatio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 Provide and document all services to English Learner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57200" y="2241720"/>
            <a:ext cx="792468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mework Basic Commitments No. 5 (p.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umentation of services to English Learners conforms with District data standards arising from Strand 4 of Focused Instruction (Analysis) and the emerging Data Protoco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lingual will be working with Mike Lynch and Scott Weber and other data systems people to develop the on-line reporting for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On-Line ELL Services Reco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68212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ey Point 4 of 9:</a:t>
            </a:r>
            <a:br>
              <a:rPr sz="4000"/>
            </a:b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xpectatio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ervices for what stud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57200" y="2286000"/>
            <a:ext cx="7924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t depends 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de level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ngth of time in U.S. sch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lish Proficiency Level (i.e., WIDA Lev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Word on WIDA Proficiency Lev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88652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rvices for Grades K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533520" y="1371600"/>
            <a:ext cx="22096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d on WIDA English Proficiency Level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ree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s 1 &amp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s 3 &amp;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992400" y="2209680"/>
            <a:ext cx="4381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4:25:07Z</dcterms:created>
  <dc:creator>John J. Wolfe</dc:creator>
  <dc:description/>
  <dc:language>en-US</dc:language>
  <cp:lastModifiedBy>John J. Wolfe</cp:lastModifiedBy>
  <dcterms:modified xsi:type="dcterms:W3CDTF">2012-01-26T18:52:09Z</dcterms:modified>
  <cp:revision>152</cp:revision>
  <dc:subject/>
  <dc:title>Slide 1</dc:title>
</cp:coreProperties>
</file>